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F4A-5F10-4454-882E-3FF8FBEB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717-4DFD-4495-B9D9-899E004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422-B8AF-476F-9A6D-C6D4159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1CC-4210-4BD3-B382-2296879C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7A7-003C-46F6-8897-0E0F3EBA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464-852A-41FF-948F-50C56B0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9D6-27D1-40F0-A9B7-0E77DDAC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CEA-27B6-414B-9021-100E6BE4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1A0-0C1A-45A8-8E98-7C98D192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1B6-AD9D-46BA-BEAA-D077842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06A-FCA0-4B65-BF20-4B392EE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0CD-76D3-4F3F-903B-511782F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F977-922E-485A-8ADA-1E4866CA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 3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etecção e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básico: Fazer nosso objeto parar (reverter velocid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velocidade contrária, igual a aplicada, ou não permitir o move (preven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colisao &lt;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d. Básico: adaptar ângulo noss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icionar um ângulo simples, ajuda a encontrar um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neira correta: adicionar um ângulo calculado, de acordo com o tipo de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colisao &lt;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recao# = direcao#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ROTATE OBJECT 1,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o automá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OBJECT COLLISION Num, Raio,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sférica, pelo tamanho do r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sta = 1, procura e seta posicao livre para obj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ndo manualmente a caixa de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OBJECT COLLISION BOX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Num, X1, Y1, Z1, X2, Y2, Z2,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em relação ao ponto zero do objeto ( + x, - x, .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0 = Caixa colisão fixa (AA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= Caixa colisão rotacional (OO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o de colisão: valor para deslizar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X = GET OBJECT COLLISION 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 = GET OBJECT COLLISION 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Z = GET OBJECT COLLISION Z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es de retorno podem ser adicionados a posição do objeto, confere um resultado igual ao do “auto colli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m outros tipos de colisão, que serão vistos em outras a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ões com cenário estático (B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 altura de terr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e altura de matrizes (ch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ão de objetos auxiliares para determinar saídas mais inteligentes (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cluir colisões básicas em nosso projeto teste (exercício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ão permitir nosso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laye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ruzar paredes, responder com inteligência ao 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vançado: perceber colisão com objetos auxiliares – simulação de bônus, itens utilizáveis, que podem ser recolh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s ocupam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CE BOX = caixa de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CING SPHERE = esfera de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GONAL COLLISION = objetos mais detalh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557440" cy="27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ABB – axis aligned bounc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acompanha orientação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s rápida possível / baixa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56880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B (OOBB) – oriented bounc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companha a r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processamento / maior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63640" y="2833560"/>
            <a:ext cx="56167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Caixa de col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nto central do objeto – posição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ordenadas limites  (X1, Y1, Z1) (X2, Y2, Z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ordenadas Box: relação ao centro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94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uas etap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col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gir a colisões (tra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ark Bas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COLLISON ON NUM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ult = OBJECT COLLISION (num1*, num2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um2* = 0 - testa colisão com tudo, retorna num objeto coli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1o Detec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ódigo: ativa colisão nossos objetos (única vez, para cada objeto que se deseja detec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OBJECT COLLISION 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cebe a colisão de nosso objeto principal (todo ciclo: dentro do lo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lisao = OBJECT COLLISON (1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stra resultado da colisão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 20, 40, “Colisão: “ + STR$(colis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ão: Detec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isões: tra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isar o con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r velocidade, rotação, deslizar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264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35Z</dcterms:created>
  <dc:creator>A.B.</dc:creator>
  <dc:description/>
  <dc:language>en-US</dc:language>
  <cp:lastModifiedBy>A.B.</cp:lastModifiedBy>
  <dcterms:modified xsi:type="dcterms:W3CDTF">2008-09-02T12:01:43Z</dcterms:modified>
  <cp:revision>15</cp:revision>
  <dc:subject/>
  <dc:title>Colisões 3D</dc:title>
</cp:coreProperties>
</file>